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73152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409400" y="720360"/>
            <a:ext cx="4497480" cy="35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1E8C19-6DE8-4D8A-9CA3-386BF6119F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0A8FCD-C250-4047-A495-DC29C9CD22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409760" y="720720"/>
            <a:ext cx="4497480" cy="359892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F844FB-04A7-4220-B426-7D202622D2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409760" y="720720"/>
            <a:ext cx="4497480" cy="35989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23D49E-8C90-4880-805E-5BAF7C7D29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409760" y="720720"/>
            <a:ext cx="4497480" cy="359892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085375-C66E-41DF-AFA9-53227778FB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409760" y="720720"/>
            <a:ext cx="4497480" cy="35989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ogram is  available through the Opportunities 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6534DC-1295-40D8-9EDB-6845D0FB24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409760" y="720720"/>
            <a:ext cx="4497480" cy="359892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tures of progra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lass business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vidual mentoring and support from a business counsel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repreneurial support during the business plan writing 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Number of week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program varies by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716040" y="4564080"/>
            <a:ext cx="5851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6E5FB1-B441-4563-92D7-89035275CC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409760" y="720720"/>
            <a:ext cx="4497480" cy="35989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basic client eligibility only, a vpi Career Specialist can discuss eligibility requirements in greater deta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EBFAD1-18C8-473E-A5B5-A60FE664E0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409760" y="720720"/>
            <a:ext cx="4497480" cy="35989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lient would not be eligible for the OSEB program if participated in any Self Employment training program (i.e. provincial or other) within the last 24 month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A3C8D2-9F39-4AEC-A933-13628DFF16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409760" y="720720"/>
            <a:ext cx="4497480" cy="35989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work experience to unemployed job seekers within projects that benefit the community or local econom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end of their participation, participants in the program will have recent work experience and additional skills to add to their résumés, increasing their chances of successfully finding long-term employ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JCP ends if individual secures full time employment with existing JCP sponsor or with an external emplo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E518BE-3148-43F3-A38B-AA7121D4EB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409760" y="720720"/>
            <a:ext cx="4497480" cy="35989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l for a newcomer to Canada that needs their first Canadian experience in the workplace or Canadians that want to change or start a new job in a career they have no previous job experi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0876ED-884E-4657-A783-7B9A34B630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409760" y="720720"/>
            <a:ext cx="4497480" cy="35989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287FEB-DC69-4A00-BBE6-E08A7C7723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409760" y="720720"/>
            <a:ext cx="4497480" cy="35989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sampling of work experience fields.  This program offers 8-12 weeks of unpaid work experi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25C565-297F-4E08-B122-46E0F35C0F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409760" y="720720"/>
            <a:ext cx="4497480" cy="35989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6B9645-C277-4014-B956-3E5168CF62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409760" y="720720"/>
            <a:ext cx="4497480" cy="35989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s of trad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tru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Bricklayer, Civil Engineering Technician, Roofer, Painter, Crane Operator, Scaffo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dustrial/Manufactu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Machinists, Tool and Die Makers, Instrument Makers, Mold Makers and Pattern Makers build precise, complex tools and parts for the aerospace, medical, defense, automotive, construction and consumer product indus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tive Pow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Motive Power Technician – Trade Related to Automotive, Heavy Duty Mechanic, Truck and Coach Technici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Hairstylists/Barbers/Cosmetologists and Cooks/Chefs), Public Safety Officers (firefighters and correctional officers), and Funeral Directo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ind out more about these trades go to </a:t>
            </a:r>
            <a:r>
              <a:rPr b="1" lang="en-US" sz="1200" spc="-1" strike="noStrike" u="sng">
                <a:solidFill>
                  <a:srgbClr val="333399"/>
                </a:solidFill>
                <a:uFillTx/>
                <a:latin typeface="Arial"/>
              </a:rPr>
              <a:t>www.tcu.gov.on.ca/eng/employmentontario/training/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59EEED-3781-47A8-BE6E-8CD1E03BDB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409760" y="720720"/>
            <a:ext cx="4497480" cy="35989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F3F158-1368-452C-A78C-FA751CAB4E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409760" y="720720"/>
            <a:ext cx="4497480" cy="35989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F48914-1C09-407C-9EF1-C2574D299E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409760" y="720720"/>
            <a:ext cx="4497480" cy="35989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DD482F-8D21-4BB8-BC45-992EEC0E7A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409760" y="720720"/>
            <a:ext cx="4497480" cy="35989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C31755-028A-4052-ADAD-BB07725FBA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409760" y="720720"/>
            <a:ext cx="4497480" cy="35989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FCC399-7869-46C3-BD5A-614476CAB6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409760" y="720720"/>
            <a:ext cx="4497480" cy="35989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36DFFB-D5EB-406B-AF03-368B062F8A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409760" y="720720"/>
            <a:ext cx="4497480" cy="35989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visual of vpi Employment Services, highlighting the various client pathways and services leading to employ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5464E4-C086-4B01-A6FE-AD38ADD916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409760" y="720720"/>
            <a:ext cx="4497480" cy="35989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BBB601-575D-4DA3-87BE-094253F34D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409760" y="720720"/>
            <a:ext cx="4497480" cy="359892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CF2A14-BC8C-4F3E-98F5-030D2051F3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409760" y="720720"/>
            <a:ext cx="4497480" cy="35989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se sessions are intended to assist individuals with exploring career options as well as maximizing job search and job retention succes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eedback sessions are available for:  resume and interview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escriptions and calendar available at reception / Steps To Success sess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EEE517-E224-4170-B06D-BBE97E0989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409760" y="720720"/>
            <a:ext cx="4497480" cy="35989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708F-AF88-44EC-B655-3E8B5E672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D93D-6E45-468A-84A6-6EA24921B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F703-700C-495B-8906-D18AF1D24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C7B1-4933-4247-A041-D6CAC93B6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9EF20-30FA-4819-96A7-7A81B3DEF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3A90A-E327-43B8-A35E-115D3C8C5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C6C38-B99E-417C-9DD3-311354F92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662DA-7FA6-45BF-95F0-AF0556C56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F4B8E-9B4A-4EA8-BACF-5A0BE15E3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A8A9E-CE73-4FE8-917D-4D20492E0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1058B-609C-4DC2-90CB-9E82D814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5996-60F3-4133-9B72-36211273C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F8B98-22E2-4AAE-B071-C3D95E48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339EE-5145-412B-8CF1-6A22143E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88156-8AC8-48AC-92E3-8BAF7A93B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BA006-B56F-4146-8416-E78A658DA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7F053-7711-41E5-9C0B-DCA2C6F1D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5E75-5CAB-4F19-A5EA-AB064F402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9EEF-2FC2-47DC-8E43-28994CE1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7DAB-2D0A-4C04-B15E-7E2FA7930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F1CA-9F2F-46DF-A478-A9987C335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54ED-50FE-40E9-A215-74276555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ABF7-8E56-429B-BD52-D9483329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E9C1-C140-487E-A5AE-B9C4EAF8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0720"/>
            <a:ext cx="2895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7933A-8429-431F-97A0-E1F99D1853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NEW LOGO 2005"/>
          <p:cNvPicPr/>
          <p:nvPr/>
        </p:nvPicPr>
        <p:blipFill>
          <a:blip r:embed="rId3">
            <a:lum bright="48000"/>
          </a:blip>
          <a:srcRect l="2499" t="0" r="0" b="17502"/>
          <a:stretch/>
        </p:blipFill>
        <p:spPr>
          <a:xfrm>
            <a:off x="1600200" y="2031840"/>
            <a:ext cx="5943600" cy="2683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660720"/>
            <a:ext cx="2895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24351-C2E1-42D8-B879-9BE7131A03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3"/>
          <p:cNvSpPr/>
          <p:nvPr/>
        </p:nvSpPr>
        <p:spPr>
          <a:xfrm>
            <a:off x="2133720" y="1523880"/>
            <a:ext cx="472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ELCOME . .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5"/>
          <p:cNvSpPr/>
          <p:nvPr/>
        </p:nvSpPr>
        <p:spPr>
          <a:xfrm>
            <a:off x="838080" y="2819520"/>
            <a:ext cx="693432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o A Presentation on </a:t>
            </a:r>
            <a:r>
              <a:rPr b="1" i="1" lang="en-US" sz="4800" spc="-1" strike="noStrike">
                <a:solidFill>
                  <a:srgbClr val="003399"/>
                </a:solidFill>
                <a:latin typeface="Eras Demi ITC"/>
              </a:rPr>
              <a:t>vpi</a:t>
            </a:r>
            <a:r>
              <a:rPr b="1" i="1" lang="en-US" sz="4800" spc="-1" strike="noStrike">
                <a:solidFill>
                  <a:srgbClr val="000000"/>
                </a:solidFill>
                <a:latin typeface="Eras Demi ITC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mployment Servi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b Matching, Placement &amp; Incen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igibil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employed /Underemployed persons not in full-time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ble to secure work independently due to multiple employment barri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ally entitled to work in Can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ond Career – What is 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403884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bjective of Second Career is to support laid off, unemployed individuals who require skills training to assist them to find employment in occupations with demonstrat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ur market prospec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Ontario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Red-Tag"/>
          <p:cNvPicPr/>
          <p:nvPr/>
        </p:nvPicPr>
        <p:blipFill>
          <a:blip r:embed="rId1"/>
          <a:stretch/>
        </p:blipFill>
        <p:spPr>
          <a:xfrm>
            <a:off x="5562720" y="2819520"/>
            <a:ext cx="2762280" cy="135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106632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kills Enhancement Programmes for Persons with Disa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606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606e0"/>
                </a:solidFill>
                <a:latin typeface="Arial"/>
              </a:rPr>
              <a:t>vpi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ll assist with the application process to obtain funding for upgrading from  Employment Ontario &amp; The Opportunities F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gibility Criter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Unempl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Legally entitled to work in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Currentl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n EI / reach-back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Identify as having a dis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990360"/>
            <a:ext cx="800100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tario Self-Employment Benefit – What is 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entrepreneurial skills development support to approved participants to help them develop and implement their business plan and become self employ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participants to concentrate on building a sustainable business by providing them with financial assistance while they receive business advice and suppo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1066320"/>
            <a:ext cx="807732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igibility for the Ontario Self Employment Benefit pro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bc4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abc4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abc4"/>
                </a:solidFill>
                <a:latin typeface="Arial"/>
              </a:rPr>
              <a:t>Basic Client Eligibil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n active claim with Employment Insurance (E.I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had an active claim that ended in the past 36 months (3 year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had a Maternity or Parental claim that began within the past 60 months (5 year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siness Eligibi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ent must have a viable business conce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quires the business support and trai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ent must posses the skills and relevant qualifications (if any) necessary to carry out their business conce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ent must not have previously owned and operated a successful busi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b Creation Partnersh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vides an opportunity for individuals who want to develop their skills, gain work experience, build their résumé, and create networking connec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an last up to 52 week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rtnership ends if employment is secur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ust b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igible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for EI Benefits or qualify for Reachback statu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925040" cy="97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 Firm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ed after real businesses to provide unemployed individuals with “hands on” experience in their field in which they have experience and/or training while looking for employ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1760" y="1066320"/>
            <a:ext cx="754380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 Fi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8229600" cy="41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g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mployed or under empl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 years of age or o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n active claim with Employment Insurance (E.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had an active claim that ended in the past 36 months (3 year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75438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 Fi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229600" cy="47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icipants work in real departments of a simulated business &amp; gain valuable work experience in areas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2"/>
          <p:cNvSpPr/>
          <p:nvPr/>
        </p:nvSpPr>
        <p:spPr>
          <a:xfrm>
            <a:off x="838080" y="3429000"/>
            <a:ext cx="39625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ministrative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uman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3"/>
          <p:cNvSpPr/>
          <p:nvPr/>
        </p:nvSpPr>
        <p:spPr>
          <a:xfrm>
            <a:off x="4419720" y="3429000"/>
            <a:ext cx="44956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eting/Sa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rcha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phic 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ormation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914400" y="17524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Your Presen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pril Grainger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reer Specia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aul Burns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reer Specia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an Apprenticeship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403884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renticeship is the entry point and the path to a rewarding career i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killed tra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olves hands-on training learned in the workplac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so involves classroom based instruction at a post-secondary in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9" descr="apprentice"/>
          <p:cNvPicPr/>
          <p:nvPr/>
        </p:nvPicPr>
        <p:blipFill>
          <a:blip r:embed="rId1"/>
          <a:stretch/>
        </p:blipFill>
        <p:spPr>
          <a:xfrm>
            <a:off x="4981680" y="2128680"/>
            <a:ext cx="3371760" cy="398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914040"/>
            <a:ext cx="807732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rentice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8229600" cy="45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tario has apprenticeship programs for more tha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0 trad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occupations 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 sector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ial/manufactu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e pow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-Apprenticeship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ining Progr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se programs will support potential entrants to the apprenticeship system who require job readiness skills and trade readiness experience to gain employment as Apprentic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ployment Resource Cent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ee faxing, photocopying, local phone calls and computers with high speed intern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ployment resources are available to assist you with your job sear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Resource Specialist is always available for assistance in the Cent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777240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al Refer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 ideal candidate for </a:t>
            </a:r>
            <a:r>
              <a:rPr b="0" i="1" lang="en-US" sz="2600" spc="-1" strike="noStrike">
                <a:solidFill>
                  <a:srgbClr val="0606e0"/>
                </a:solidFill>
                <a:latin typeface="Arial"/>
              </a:rPr>
              <a:t>vp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ichmond Hill employment services is someone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ho is unemployed (under 20 hours/wk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t a FT stu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t on EI Parental or Sick benef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t registered at another Employment Ser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ES services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900 SINS require a work perm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ork Permit must have no condi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MTCU Program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nvention Refugees require a letter of deci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777240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king a Refer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 referrals to </a:t>
            </a:r>
            <a:r>
              <a:rPr b="1" i="1" lang="en-US" sz="2800" spc="-1" strike="noStrike">
                <a:solidFill>
                  <a:srgbClr val="0606e0"/>
                </a:solidFill>
                <a:latin typeface="Arial"/>
              </a:rPr>
              <a:t>vp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Richmond Hill go through our 1-888-882-9550 Call Centre and then are transferred directly to our office in Richmond Hill where they are booked directly into our Steps To Success information se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ividuals can call on their own behalf,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organization can make the call for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aller should say where they heard about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739152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are here to help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e ask that you call us at anytime if you have questions or require additional information at 905-882-9561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1" descr="MP900448494[1]"/>
          <p:cNvPicPr/>
          <p:nvPr/>
        </p:nvPicPr>
        <p:blipFill>
          <a:blip r:embed="rId1"/>
          <a:stretch/>
        </p:blipFill>
        <p:spPr>
          <a:xfrm>
            <a:off x="2286000" y="4191120"/>
            <a:ext cx="3657600" cy="239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560" y="2437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y Last 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160" y="2437920"/>
            <a:ext cx="784836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nk You For Asking Us To Present Our Services To You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800100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vpi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606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606e0"/>
                </a:solidFill>
                <a:latin typeface="Arial"/>
              </a:rPr>
              <a:t>vpi</a:t>
            </a:r>
            <a:r>
              <a:rPr b="1" lang="en-US" sz="2800" spc="-1" strike="noStrike">
                <a:solidFill>
                  <a:srgbClr val="0606e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s provided employment services to eligible Canadian residents since 19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606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606e0"/>
                </a:solidFill>
                <a:latin typeface="Arial"/>
              </a:rPr>
              <a:t>vp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mployment Services are funded by the Ministry of Training Colleges and Universities (MTCU) / Employment Ont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ost to cl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job-map-diagram"/>
          <p:cNvPicPr/>
          <p:nvPr/>
        </p:nvPicPr>
        <p:blipFill>
          <a:blip r:embed="rId1"/>
          <a:stretch/>
        </p:blipFill>
        <p:spPr>
          <a:xfrm>
            <a:off x="-228600" y="-54000"/>
            <a:ext cx="9372600" cy="736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7315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igibility Criter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Unique Programs &amp;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Ideal Candi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ferral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606e0"/>
                </a:solidFill>
                <a:latin typeface="Arial"/>
              </a:rPr>
              <a:t>vp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Unique Service Obj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Assist individuals who are looking for work by assessing their employment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Help them connect with appropriate </a:t>
            </a:r>
            <a:r>
              <a:rPr b="1" i="1" lang="en-CA" sz="3200" spc="-1" strike="noStrike">
                <a:solidFill>
                  <a:srgbClr val="0606e0"/>
                </a:solidFill>
                <a:latin typeface="Arial"/>
              </a:rPr>
              <a:t>vpi</a:t>
            </a:r>
            <a:r>
              <a:rPr b="1" lang="en-CA" sz="3200" spc="-1" strike="noStrike">
                <a:solidFill>
                  <a:srgbClr val="0606e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services &amp; programs, and Ministry-sponsored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Provide ongoing support until sustainable employment is secu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143000" y="1706400"/>
            <a:ext cx="723888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though not really a service, </a:t>
            </a:r>
            <a:r>
              <a:rPr b="1" i="1" lang="en-US" sz="2800" spc="-1" strike="noStrike">
                <a:solidFill>
                  <a:srgbClr val="0606e0"/>
                </a:solidFill>
                <a:latin typeface="Arial"/>
              </a:rPr>
              <a:t>vp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an assist referrals with first-language support to get them off to a great st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though we prefer our referrals to be strong in their English skills 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evel 5 CLB minimu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i="1" lang="en-US" sz="2800" spc="-1" strike="noStrike">
                <a:solidFill>
                  <a:srgbClr val="0606e0"/>
                </a:solidFill>
                <a:latin typeface="Arial"/>
              </a:rPr>
              <a:t>vp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oes have Mandarin &amp; Cantonese speaking staff in the Richmond Hill off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1" i="1" lang="en-US" sz="2800" spc="-1" strike="noStrike">
                <a:solidFill>
                  <a:srgbClr val="0606e0"/>
                </a:solidFill>
                <a:latin typeface="Arial"/>
              </a:rPr>
              <a:t>vp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 also have a diverse base of other languages to draw from if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761760" y="609120"/>
            <a:ext cx="7848360" cy="10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800" spc="-1" strike="noStrike">
                <a:solidFill>
                  <a:srgbClr val="0606e0"/>
                </a:solidFill>
                <a:latin typeface="Arial"/>
              </a:rPr>
              <a:t>vpi</a:t>
            </a:r>
            <a:r>
              <a:rPr b="0" i="1" lang="en-US" sz="3800" spc="-1" strike="noStrike">
                <a:solidFill>
                  <a:srgbClr val="000000"/>
                </a:solidFill>
                <a:latin typeface="Arial"/>
              </a:rPr>
              <a:t> Unique Languag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153280" cy="10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800" spc="-1" strike="noStrike">
                <a:solidFill>
                  <a:srgbClr val="0606e0"/>
                </a:solidFill>
                <a:latin typeface="Arial"/>
              </a:rPr>
              <a:t>vpi</a:t>
            </a:r>
            <a:r>
              <a:rPr b="0" i="1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nique Job Readiness Worksh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1706400"/>
            <a:ext cx="396252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dden Job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b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me 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me Feedbac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kplace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dgeting Ba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ing Winning Le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earching The Labour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52880" y="1787040"/>
            <a:ext cx="3657600" cy="45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view Prepa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view Practi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ve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 Se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derstanding the Canadian Work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777240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b Matching, Placement &amp; Incen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jective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to match individual’s skills and interests with employment opportunities and employers’ needs in the local labour marke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cements can include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apprenticeship training; work trials (for determining employability) and work experience opportunit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dditional assistance is available through placement monitoring, support and follow u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age incentives may be available to employers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8T14:21:47Z</dcterms:created>
  <dc:creator>paul burns</dc:creator>
  <dc:description/>
  <dc:language>en-US</dc:language>
  <cp:lastModifiedBy>aholmes</cp:lastModifiedBy>
  <dcterms:modified xsi:type="dcterms:W3CDTF">2011-07-08T18:56:11Z</dcterms:modified>
  <cp:revision>31</cp:revision>
  <dc:subject/>
  <dc:title>Slide 1</dc:title>
</cp:coreProperties>
</file>